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22D-FF35-46D7-BFB9-AFC197EB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BE5-C1D3-4A18-808B-9815E0F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619-A96C-430D-92CF-F268B387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01E-351A-4E9B-8BB6-63431500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5A17-EBAD-451A-B7FE-2595C9BF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70FA-AB63-44EC-888E-918444CB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0B94-2146-4EA6-BCFF-F87FFDD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FABA-641F-453A-A16D-F9DF4A1A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A5C3-050C-4AE0-B769-3BA04E8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A645-241F-45CB-8C7B-BC69088B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3BAC-8125-4236-B25B-4BB4EC8A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C06-0DD5-45D5-92D6-73FBE9F6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CF4A-0396-459D-B47D-DB1E4CA1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74ED-B3F8-4AE4-9783-C7176953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F653-E21E-48F9-8EC0-ACBBD93F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4D65-832B-4E01-B5BD-B7B3C7F9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1ACF-FF04-4E5F-8D6C-5A97BDBF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67D-4D3D-4B24-8F2F-04B171A7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26A-0A1D-4EC1-AE3C-E3286EB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828-869C-46ED-A21A-B7415999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C29-831A-44E1-A60A-307F3B53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CCE-DA09-41EC-AF37-3523156F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94F-734A-4461-B901-7E21CCA0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D84-C262-48F2-9216-1F39316D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40F4-86F5-4239-B693-C102FB7D47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7334-FE6B-4B62-8C4B-8B3B623EE4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1484280"/>
            <a:ext cx="86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владение ребенком пространственной терминологи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61080" y="4888080"/>
            <a:ext cx="63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Презентацию подготовила Пешкина Н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Студентка 646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476280"/>
            <a:ext cx="84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Задачи: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бор дидактических игр по проблеме овладения пространственной терминолог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ить детей игровыми заданиями для овладения пространственных представ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озраст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ршая, подготовительная гру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300720" y="3645000"/>
            <a:ext cx="2303640" cy="299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2519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50920" y="260280"/>
          <a:ext cx="8497800" cy="6193080"/>
        </p:xfrm>
        <a:graphic>
          <a:graphicData uri="http://schemas.openxmlformats.org/drawingml/2006/table">
            <a:tbl>
              <a:tblPr/>
              <a:tblGrid>
                <a:gridCol w="709560"/>
                <a:gridCol w="1692360"/>
                <a:gridCol w="2027160"/>
                <a:gridCol w="2023920"/>
                <a:gridCol w="2044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иентировка в собственной схеме те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иентировка в окружающем пространств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сприятие пространственные отношений межд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едмет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иентировка на плоск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аршая 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определять левые и правые части собственного те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оп­ределять и словесно обозначать местоположение предметов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{вверху, внизу, впереди, сзади, сле­ва, справа)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определять направление от себя. Обучение навыкам ориентировки по схеме в групповом помещении и на участке. Формирование умения определять правую и левую стороны у собе­седника, на картин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понимать и словесно обозначать пространственные   отношения между натуральными предмета­ми и их изображениями, выраженными простыми предлогами («в», «на», «у», «с», «за», «под», «над», «перед»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рмирование умения определять верхний правый, нижний правый, верхний левый и нижний левый углы на плоскости. Развитие умения размещать предметы на плоскости по словесной инструкции. Развитие способности удерживать в памяти пространственное расположение предметов на плоск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готовительная 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крепление умений определять левые и правые части собственного тела. Обучение выполнению заданий типа показать правой рукой левое ухо, левой рукой — правое коле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крепление полученных навыков ориентировки в окружающем пространстве. Формирование умения создавать простейшие чертежи, планы, сх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понимать и практически употреблять простые и сложные предлоги («из-за», «из-под», «между», «через», «около», «возле»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крепление полученных навыков ориентировки на плоскости. Обогащение экспрессивной речи прилагательными «левее», «правее», «выше», «ниж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626400"/>
            <a:ext cx="8748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Рекомендуются следующие зад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1.Дидактическое упражнение с мячо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(гимнастической палкой). Дети по команде педагога поднимают мяч вверх, затем опускают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2.Дидактическая игра «Где мишка?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Дети отвечают. Затем педагог опускает игрушку вниз и снова спрашивает: «А сейчас где мишка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3.Дидактическая игра «Вверху — внизу»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Педагог пред­лагает детям поднять голову вверх и назвать, что видят вверху (потолок, люстру, небо, солнце), затем опустить голову вниз и назвать, что они видят внизу (пол, ковер, землю, траву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4.Дидактическая игра «Что впереди, что сзади»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Педагог предлагает детям перечислить предметы, расположенные впе­реди них, сзади н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5.Дидактическая игра «Кто впереди, кто сзади»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Детям, стоящим в колонне, педагог поочередно предлагает назвать имена товарищей, стоящих впереди, затем товарищей, стоя­щих сз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6.Дидактическая игра «Где зайка?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Педагог предлагает детям спрятать зайку за спину и спрашивает: «Где зайка?» Дети отвечают: «Сзади». Затем педагог просит детей вытянуть руки с игрушкой вперед и снова спрашивает: «Где зайка?» Дети отвечают: «Вперед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7.Дидактическая игра «Команды»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Дети по команде педа­гога делают два шага вперед, один шаг наз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2040" y="707760"/>
            <a:ext cx="875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Следующим моментом является маркировка левой руки ребенка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ебенку предоставляется опора с внешним пространством. Например, можно привязать на левое за­пястье красную ленту. Дети быстро запоминают, что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ле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— это «там, где красная лента», что от «красной ленты» следует начинать перечисление или счет предметов, рассматривание серии картинок с последовательными дей­ствиями, рисование карандашом горизонтальной линии на бумаге и т.п. Постепенно, с усвоением речевых обозна­чений правой и левой руки, от внешней опоры избавля­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я по дифференциации правых и левых частей т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ь правую руку, назвать ее. Показать и назвать левую ру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ь (взять) предмет правой (левой) ру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нести части тела с правой рукой, назвать их (правое ухо, правая нога), соотнести части тела с левой рукой и на­звать их (левый глаз, левое колено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ь левой рукой правое ухо, правой рукой — левую н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694440"/>
            <a:ext cx="844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 того как дети начнут уверенно ориентироваться в схеме собственного тела, проводятся упражнения на опреде­ление направлений в пространстве. Для этого целесообразно использовать игру «Куда пойдешь, что найдешь?» Цель ее — упражнять ребят в действенном различении и обозначении основных пространственных направлений. Воспитатель в от­сутствие детей прячет игрушки в разных местах комнаты с учетом предполагаемого местоположения ребенка (впереди, сзади, слева, справа). Например, впереди за ширмочкой пря­чет мишку, а сзади на полочке помещает матрешку. Затем он приглашает ребенка и объясняет ему задание: «Сегодня ты научишься отыскивать спрятанные игрушки! Вперед по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шь — мишку найдешь, назад пойдешь — матрешку най­дешь. Куда же ты хочешь пойти и что там найдешь?» Ребенок должен выбрать направление, назвать его и следовать по нему. Отыскав игрушку, он говорит, что и где нашел. («Я пошел назад и на полочке нашел матрешку».) Сначала ребенку предлагают выбирать только из двух направлений (вперед —- назад, налево — направо), а позднее — из четырех. Также постепен­но увеличивают количество игрушек, расположенных с каж­дой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9640" y="765000"/>
            <a:ext cx="87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акже на этом этапе рекомендуются следующие зан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Вытянуть в сторону правую руку, перечислить предметы, расположенные справа. Вытянуть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ону левую руку, перечислить предметы, расположенные сл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Повернуть голову влево, затем впра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Наклонить голову к правому плечу, т. е. вправо, наклонить голову к левому плечу, т. е. вле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284720" y="4437000"/>
            <a:ext cx="30240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9280" y="692280"/>
            <a:ext cx="865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ывод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Формирование пространственных представлений включает в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ределение формы, величины, местоположение и перемещение предметов относительно друг друга и собственного тела, играет значительную роль во взаимодействии человека с окружающей средой и служат необходимым условием ориентировкой в ней. Так отмечал П.Ф. Лесгаф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5:15:51Z</dcterms:created>
  <dc:creator>user</dc:creator>
  <dc:description/>
  <dc:language>en-US</dc:language>
  <cp:lastModifiedBy>1</cp:lastModifiedBy>
  <dcterms:modified xsi:type="dcterms:W3CDTF">2010-12-26T20:33:39Z</dcterms:modified>
  <cp:revision>8</cp:revision>
  <dc:subject/>
  <dc:title>Слайд 1</dc:title>
</cp:coreProperties>
</file>